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860-0C91-44E2-9796-4C8B8D02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535-2B41-434D-9E7A-6F5C4C0D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6CDC-CE28-454B-9531-D2858292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07C0-84D0-4932-A541-83EBE917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91C-FE3A-46F7-ADF8-B9C2BA17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9A4-45D3-4887-84BB-48EB13CA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2B7-7E2E-4C00-ABD5-A154FF24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C6B-58EC-4E2D-82DC-D6D63498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C2E-F891-472F-A935-0B8BC1C2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40F-068D-45E3-9D21-CEC9E056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DDF-675A-40AE-A3E5-4C6B19A7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DD5-8722-48F2-A6B8-5236E517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0337-B333-46A1-AA90-FD0EB19CE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ule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de1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7"/>
            <a:endCxn id="4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6"/>
            <a:endCxn id="4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7"/>
            <a:endCxn id="45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5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5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45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blication is linked to the journal in which it 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0"/>
            <a:endCxn id="60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ypes of publications in Fly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gsaw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it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l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really work for e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per published in a book published in a series of boo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0"/>
            <a:endCxn id="68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pub relationships in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1"/>
            <a:endCxn id="71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1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0199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 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2" idx="0"/>
            <a:endCxn id="73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0102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3"/>
            <a:endCxn id="71" idx="1"/>
          </p:cNvCxnSpPr>
          <p:nvPr/>
        </p:nvCxnSpPr>
        <p:spPr>
          <a:xfrm>
            <a:off x="4723920" y="5790960"/>
            <a:ext cx="158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80060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ny type of publication (not just journal -&gt; paper) to b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ide: its recur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16:46:27Z</dcterms:created>
  <dc:creator>William M. Gelbart</dc:creator>
  <dc:description/>
  <dc:language>en-US</dc:language>
  <cp:lastModifiedBy>William M. Gelbart</cp:lastModifiedBy>
  <dcterms:modified xsi:type="dcterms:W3CDTF">2003-09-14T22:24:53Z</dcterms:modified>
  <cp:revision>4</cp:revision>
  <dc:subject/>
  <dc:title>chado</dc:title>
</cp:coreProperties>
</file>